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5720-17FB-4AB5-8978-92FFDD819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EFFE-DA7D-4614-A2B7-F4AB92584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AF64-BF49-4359-A981-A8CB614F4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95D9-7EC4-4428-8443-605DC7181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28C33-37FB-47AB-8288-6343B603A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DCCDE-545F-41E6-94FC-68FC3FF8D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21F6E-3623-4A18-B1D0-D98CC13AD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C8935-3DE4-4A87-8F20-C7801B604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B932D-DDE5-4DBC-95D5-FFCA6E51D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952D9-FFEF-42C9-A7B1-883157E82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FA472-C73B-4AB3-B40F-F559E4B8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3CBD-463A-4D99-A0E8-48CE627CE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35757-194F-4DA1-993B-7B70C9C6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620D9-481F-4E8B-893C-7109E4C1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29D87-30FC-4E04-9C09-583926CD4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49CA2-CCB7-48DA-916F-443F8BD18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EF379-3924-46B2-B8FA-D7D826F17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00A7-373B-4FDD-AC3E-B370B8267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BB61-EF80-409F-82B8-DFD9DB80D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AC3D-8F30-443E-A74A-D627DA4E8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0D30-57B5-4314-8541-3BD428311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6C5F-38D4-41A9-9103-CA41200D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AE0C-8DAA-4CDB-BFD4-6887C8DE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65F4-200A-4D61-8451-F7C8EC64C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7A472-1F4C-4378-91DD-A6587A7CBEE7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FB4B5-FC6E-4B29-9185-1A51973F995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816F0-B66C-47AB-B02F-BB6D30C1D178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D7015-6AA7-49AB-A009-EAA87519A9F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92360" y="1125360"/>
            <a:ext cx="4824720" cy="41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нешнеторговая политика</a:t>
            </a:r>
            <a:br>
              <a:rPr sz="4000"/>
            </a:b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Валютный рынок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6316560"/>
            <a:ext cx="7086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38080" y="5866920"/>
            <a:ext cx="7632720" cy="115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авка Н.В., учитель истории и обществознания МОУ «Февральская СОШ №1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009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230640" cy="3240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3995640" y="260280"/>
            <a:ext cx="216216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Экономик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6AF64-A99B-4197-B1B1-740A730D9348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D7C3AE7-E996-4B72-ABE6-9E58B69D166E}" type="datetime1">
              <a:rPr lang="en-US"/>
              <a:t>07/28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4360" y="476280"/>
            <a:ext cx="813564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 валютный курс влияет эластичность спроса по цене на импортные товар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зличия в процентных ставках по вкладу в банка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жидания владельцев денег относительно динамики курса в будущем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195640" y="2133720"/>
            <a:ext cx="4219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Валютная политика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4360" y="2852640"/>
            <a:ext cx="7920000" cy="17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50000">
                <a:srgbClr val="004558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Это совокупность экономических, правовых и организационных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ер в области регулирования валютных отношений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инимаемых государственными органами, центральным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банковскими учреждениями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еждународными финансовыми организациям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4859280"/>
            <a:ext cx="828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Юридически валютная политика оформляется законами (в России Закон РФ «О валютном регулировании и валютном контроле»). Регулирование валютного курса называется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девизной политикой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DF66-5463-43FB-BCD7-CA2584BE51DD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056B06-EC51-44F9-88D4-27B92F8ECD4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4360" y="549360"/>
            <a:ext cx="806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ддержка фиксированных курсов обеспечивается валютными интервенциям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39640" y="1341360"/>
            <a:ext cx="278136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Валютны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нтервенци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24360" y="1268280"/>
            <a:ext cx="4895640" cy="1297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ff99"/>
              </a:gs>
              <a:gs pos="100000">
                <a:srgbClr val="3399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то деятельность Центрального банка п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купке-продаже иностранной валюты дл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ддержания курса национальной валюты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4360" y="270828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 сокращении валютных резервов или инфляции требуется девальвация или ревальвация валют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4360" y="3429000"/>
            <a:ext cx="28000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act"/>
              </a:rPr>
              <a:t>ДЕВАЛЬВАЦИЯ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Impact"/>
              </a:rPr>
              <a:t>ВАЛЮТ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Impact"/>
              <a:ea typeface="Impact"/>
            </a:endParaRPr>
          </a:p>
        </p:txBody>
      </p:sp>
      <p:sp>
        <p:nvSpPr>
          <p:cNvPr id="135" name=""/>
          <p:cNvSpPr/>
          <p:nvPr/>
        </p:nvSpPr>
        <p:spPr>
          <a:xfrm>
            <a:off x="3635280" y="3429000"/>
            <a:ext cx="4896000" cy="12970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то официальное снижение курс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циональной валюты по отношению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 иностранным валюта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4360" y="5013360"/>
            <a:ext cx="28000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РЕВАЛЬВАЦИЯ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Impact"/>
              </a:rPr>
              <a:t>ВАЛЮТ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Impact"/>
              <a:ea typeface="Impact"/>
            </a:endParaRPr>
          </a:p>
        </p:txBody>
      </p:sp>
      <p:sp>
        <p:nvSpPr>
          <p:cNvPr id="137" name=""/>
          <p:cNvSpPr/>
          <p:nvPr/>
        </p:nvSpPr>
        <p:spPr>
          <a:xfrm>
            <a:off x="3708360" y="5084640"/>
            <a:ext cx="4896000" cy="12970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то официальное повышение  курс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циональной валюты по отношению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 иностранным валюта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7092-FA59-4EC4-9382-06F8DC76A5F3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467096-1FFD-463F-B72B-D681DCAA1B7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900000" y="620640"/>
            <a:ext cx="7704360" cy="58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нструментом валютной политики являются валютные ограничения – меры, регламентирующие операции с национальной и иностранной валютой, для поддержания валютного курса и других целей (Федеральный закон РФ «О валютном регулировании и валютном контроле» 2004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результате соглашений между государствами возникает мировая валютная система.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В 1867г. принята Парижская валютная систем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(золотомонетный стандарт): параллельное обращение золотых монет и банкнот, конвертируемость банкнот в золото, свободный ввоз и вывоз золот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В 1944г. принята Бреттон-Вудская валютная систем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: в качестве международных денег были приняты золото и резервные валюты (доллар и фунт стерлингов). Доллар США приравнивался к золоту как эталон ценности валют и мог обмениваться на золото по официальной цене 35 долл. За 1 тройскую унцию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В 1976г. принята Ямайская валютная система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: отменены официальные цены золота и золотые паритеты валют, т.е. золото демонетизировалось; отменены фиксированные курсы валют; модифицированы функции МВФ как института валютного регулировани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C7E9-0993-4B41-BF2C-13C7B0A59C68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E560E3-FC40-49FE-AE2F-A6AFFBA5B97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4360" y="404640"/>
            <a:ext cx="7775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ссия вошла в МВФ в 1992г. И стала полноправным участником современной международной валютной систем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ссийский рубль является частично конвертируемой валютой с управляемо плавающим курсом. Либерализованы операции с капитало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348000" y="1844640"/>
            <a:ext cx="191448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РЕЗЮМ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5640" y="2924280"/>
            <a:ext cx="813744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ировое хозяйство представляет собой совокупность экономик отдельных стран, связанных системой международных экономических отношений. Оно основывается на международном разделении труда. Оно включает более 200 стран и территорий, который могут быть классифицированы по различным критериям с учетом многих экономических показателей. Три основные группы: индустриальные страны, развивающиеся страны и страны с переходной экономико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ажнейший элемент системы м-н отношений – международная торговля. Международные расчеты осуществляются при посредстве валютного рынка, который представлен многообразными операциями. В результате межгосударственных соглашений возникает мировая валютная систем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88B2-CBBB-4B63-8894-296CA0F8A3EB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952E6A-686E-4E69-A9C1-08C4E7B7197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11280" y="549360"/>
            <a:ext cx="3647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фритредерство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3360"/>
            <a:ext cx="4103640" cy="115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50000">
                <a:srgbClr val="5f5f5f"/>
              </a:gs>
              <a:gs pos="100000">
                <a:srgbClr val="ccec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Внешнеторговая политика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ориентированная на свободно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развитие торговл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1484280"/>
            <a:ext cx="8066160" cy="1334160"/>
          </a:xfrm>
          <a:prstGeom prst="rect">
            <a:avLst/>
          </a:prstGeom>
          <a:noFill/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1947г. заключено Генеральное соглашение по тарифам и торговл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се страны используют комплекс мер для стимулирования и защиты рынка от внешней конкуренции.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Times New Roman"/>
              </a:rPr>
              <a:t>Классический инструмент протекционизма – таможенные пошли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8360" y="3068640"/>
            <a:ext cx="27622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Таможенны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ошлины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19640" y="3068640"/>
            <a:ext cx="5545080" cy="151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f5f5f"/>
              </a:gs>
              <a:gs pos="50000">
                <a:srgbClr val="0000ff"/>
              </a:gs>
              <a:gs pos="100000">
                <a:srgbClr val="5f5f5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то государственные денежные сборы, взимаемые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 провозимых  через границу товаров в соответстви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 таможенными тарифами и в зависимости от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епени обработки товара, страны ег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исхождения и других обстоятельст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5013360"/>
            <a:ext cx="143964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50000">
                <a:srgbClr val="005e75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Це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кспортног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овар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484360" y="5013360"/>
            <a:ext cx="144000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50000">
                <a:srgbClr val="005e75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аможенна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шли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84720" y="4941720"/>
            <a:ext cx="2232000" cy="100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50000">
                <a:srgbClr val="005e75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вышенна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нутренняя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цен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195640" y="5445000"/>
            <a:ext cx="215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06520" y="530064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24360" y="5373720"/>
            <a:ext cx="360360" cy="71280"/>
          </a:xfrm>
          <a:prstGeom prst="rightArrow">
            <a:avLst>
              <a:gd name="adj1" fmla="val 50000"/>
              <a:gd name="adj2" fmla="val 126389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16720" y="5445000"/>
            <a:ext cx="504720" cy="73080"/>
          </a:xfrm>
          <a:prstGeom prst="rightArrow">
            <a:avLst>
              <a:gd name="adj1" fmla="val 50000"/>
              <a:gd name="adj2" fmla="val 172660"/>
            </a:avLst>
          </a:prstGeom>
          <a:solidFill>
            <a:srgbClr val="00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20000" y="5013360"/>
            <a:ext cx="187308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ccff"/>
              </a:gs>
              <a:gs pos="50000">
                <a:srgbClr val="005e75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меньшени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проса н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кспортны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овар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DDA1-29EB-44D0-8B9F-1745FBE9EBA8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15F2BD-EDA1-42DD-9078-B6990BD7B43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9640" y="538200"/>
            <a:ext cx="835344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С одной стороны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защита от внешней конкуренции способствует консервации технологической отсталости местных предприятий, которые не имеют стимулов для снижения издержек производства. Сохранение пошлин препятствует развитию международной торговли. По оценкам ВТО, снижение пошлин приведет к росту мировой торговли на 12%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С другой стороны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пошлины способствуют развитию молодых отраслей национальной экономики, созданию новых рабочих мест. Государство получает стабильные доходы от таможенного обложения, что дает возможность выполнять социальные программ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мпортные пошлины в России выше среднеевропейских, так как при снижении пошлин значительная часть отечественных предприятий обанкротится. Для снижения пошлин необходим подъем экономик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95280" y="4221000"/>
            <a:ext cx="5245200" cy="24400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372360" y="4292640"/>
            <a:ext cx="1655640" cy="2071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0ED5-D2C8-40D5-A8EC-0E13B46AC7BA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FCD3BD-31AF-466C-931C-0FED0117F69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68360" y="549360"/>
            <a:ext cx="82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зновидностью импортных пошлин являются антидемпинговые пошлины. Они устанавливаются для борьбы с демпинго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11280" y="1484280"/>
            <a:ext cx="23050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емпинг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03640" y="1413000"/>
            <a:ext cx="568944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99ff"/>
              </a:gs>
              <a:gs pos="50000">
                <a:srgbClr val="5f5f5f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становление искусственно заниженных цен н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кспортируемые товары для достижени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курентноспособности на внешних рынка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1280" y="3068640"/>
            <a:ext cx="8353440" cy="29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пользуются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етарифные инструменты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– меры, не связанные с установлением пошлин: установление импортных квот, т.е. количественных ограничений на ввоз определенных товаров, установление жестких стандартов и технических условий для импортных товаров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ля стимулирования экспорта применяются государственные субсидии, льготные кредиты экспортерам и иностранным покупателям, страхование коммерческих риск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результате могут возникнуть и возникают «стальные», «автомобильные», «куриные» и др. торговые вой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9104-EAE0-44F5-B5F1-AC3165CD999C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0F29DA-93DA-4312-87A2-F1D0806B108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Международное регулирование торговли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26920" y="1989000"/>
            <a:ext cx="7993080" cy="41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существляется Всемирной торговой организацией (ВТО)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– преемницей Генерального соглашения по тарифам и торговле с 1995г. Членами ВТО являются 140 государст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Основные принципы ВТО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иберализация торговли путем постоянного снижения ставок таможенных пошлин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тказ от нетарифных ограничений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едискриминационный характер торговли,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облюдение правил торговли услугами и объектами интеллектуальной собственност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оссия ведет переговоры о вступлении в ВТО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2116-A0F6-43DF-8DAE-525EA015BD28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9DD2C7-4981-4CB6-9556-9ADCA24947B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c66"/>
                </a:solidFill>
                <a:latin typeface="Arial"/>
              </a:rPr>
              <a:t>Валютный рынок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1628640"/>
            <a:ext cx="835344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Осуществление международных расчетов предполагает использование валю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д </a:t>
            </a:r>
            <a:r>
              <a:rPr b="1" lang="ru-RU" sz="2000" spc="-1" strike="noStrike">
                <a:solidFill>
                  <a:srgbClr val="ffff66"/>
                </a:solidFill>
                <a:latin typeface="Times New Roman"/>
              </a:rPr>
              <a:t>валютой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понимается любая национальная денежная единица. Термин «валюта» применяется для обозначения денежных знаков иностранных государств и платежных средств, выраженных в тех или иных национальных денежных единицах и используемых в международных расчетах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4360" y="3860640"/>
            <a:ext cx="222876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алютный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ынок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3645000"/>
            <a:ext cx="5689440" cy="143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ff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истема устойчивых экономических 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организационных отношений, возникающих в связи с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уплей-продажей иностранных валю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4360" y="536256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алютный рынок существует, так нет единых денег, обязательных для приема во всех государствах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E810-2466-435B-9FD4-64CBEF3C9A6F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078B61-1B2C-4198-9C99-9CBD4495782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68360" y="692280"/>
            <a:ext cx="8280360" cy="40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ировые валютные рынки расположены более чем в 25 международных финансовых центрах, среди которых выделяются Лондон, Нью-Йорк, Токио, Париж, Цюрих, Франкфурт-на-Майне, Гонконг, Сингапур, Бахрейн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Важнейшие операторы на международном валютном рынке – банки, особенно транснациональные. Покупают и продают валюту предприятия, участвующие во внешнеэкономической деятельности, валютные органы государства, частные лиц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асштабы: более 1 трлн долл. В день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На национальном валютном рынке операции производятся в границах территории страны в соответствии с законами данного государства. Центральный банк устанавливает курс национальной валюты в отношении валют зарубежных стран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68360" y="5157720"/>
            <a:ext cx="3257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Валютный кур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95640" y="4797360"/>
            <a:ext cx="496908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66"/>
              </a:gs>
              <a:gs pos="50000">
                <a:srgbClr val="cc6600"/>
              </a:gs>
              <a:gs pos="100000">
                <a:srgbClr val="ffcc6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Цена денежной единицы одной страны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выраженная в иностранных денежных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единицах или международных расчетны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единицах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EA3A-C405-4B58-91E0-98A96B8EF61E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6EDE45-3997-43F8-B486-5F78B229AB2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755640" y="549360"/>
            <a:ext cx="7704000" cy="39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ак спрос и предложение валют непрерывно меняется, валютный курс нестабилен. Его фиксация на определенную дату банками или валютной биржей называется котировкой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imes New Roman"/>
              </a:rPr>
              <a:t>Прямая котировка</a:t>
            </a:r>
            <a:r>
              <a:rPr b="0" lang="ru-RU" sz="2400" spc="-1" strike="noStrike">
                <a:solidFill>
                  <a:srgbClr val="ffcc66"/>
                </a:solidFill>
                <a:latin typeface="Times New Roman"/>
              </a:rPr>
              <a:t> – к единице иностранной валюты приравнивается то или иное количество национальных денежных единиц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Косвенная котировка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– единица национальной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валюты приравнивается к определенному количеству иностранной валют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FCC9-70B7-4BBF-A7F3-DE60BDED93B4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DCCA11-D5C5-4386-99A5-51371D39DD9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080560" cy="80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cc66"/>
                </a:solidFill>
                <a:latin typeface="Arial"/>
              </a:rPr>
              <a:t>Почему меняются курсы валют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1052640"/>
            <a:ext cx="828036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инамика курса определяется сдвигами в соотношениях цен одинаковых «корзин» товаров на внутренних рынках. Например: предположим, что 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= 0,75 €, цена компьютера, который заменяет в данном случае корзину товаров, в США составляет 1000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в Германии – 750 €. Если в Германии компьютеры подорожают до 800€, то будет выгоден их экспорт из США, так как при курсе 0,75€ за 1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можно будет продать его в Германии за 800 € и поменять их на 1066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Прибыль составит 66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не принимая в расчет  транспортировку и другие расходы. Это приведет к росту спроса на доллары для закупок компьютеров в США, и курс доллара вырастет, допустим, до 0,85 €. В таком случае станет выгоден их экспорт из Германии, выгода на одной сделке составит 50 €. Это приведет к росту спроса на евро. Равновесие установится при курсе 0,80 евро за один доллар. Этот курс будет отражать новое соотношение цен компьютеров в США и Германии. Таким образом, курс валюты зависит от темпов инфляции в стран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намика курса определяется изменениями в динамике экспорта и импорта страны. Например, чем больше экспорт, тем больше спрос за границей на валюту этой страны, тем выше ее курс. Рост импорта вызывает рост спроса на иностранную валюту и ослабление национальной валют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FBE7-0373-4A99-BF2D-61D1188DF5E9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B85E84-F405-44E6-8E17-E925B5E89BF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1:16:07Z</dcterms:created>
  <dc:creator>Надежда</dc:creator>
  <dc:description/>
  <dc:language>en-US</dc:language>
  <cp:lastModifiedBy>Надежда</cp:lastModifiedBy>
  <dcterms:modified xsi:type="dcterms:W3CDTF">2009-05-26T08:09:07Z</dcterms:modified>
  <cp:revision>4</cp:revision>
  <dc:subject/>
  <dc:title>Внешнеторговая полити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